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70D7-0C8A-4CA6-8E63-85F8392D0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280" y="43920"/>
            <a:ext cx="8425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353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9640" y="3791520"/>
            <a:ext cx="8353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36BF-7FF8-44D4-87B0-705EF409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43920"/>
            <a:ext cx="8425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7628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040" y="1197000"/>
            <a:ext cx="407628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9640" y="3791520"/>
            <a:ext cx="407628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20040" y="3791520"/>
            <a:ext cx="407628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DA29-A303-4137-9E04-A69B4CB20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280" y="43920"/>
            <a:ext cx="8425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895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200" y="1197000"/>
            <a:ext cx="26895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1197000"/>
            <a:ext cx="26895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9640" y="3791520"/>
            <a:ext cx="26895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200" y="3791520"/>
            <a:ext cx="26895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3791520"/>
            <a:ext cx="26895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8993-A638-4E24-B5D4-423B3D49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09F8-0079-4C29-81A6-A213EB2D9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43920"/>
            <a:ext cx="8425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35344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f5c2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6137-F54F-4418-AB35-78EFB840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43920"/>
            <a:ext cx="8425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353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C52B-3BC3-4F82-B23C-6DF0375D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43920"/>
            <a:ext cx="8425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76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0040" y="1197000"/>
            <a:ext cx="4076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A07E-1776-4501-9068-847D7AE8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43920"/>
            <a:ext cx="8425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A726-E04E-4FC4-8F91-8D499868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9280" y="43920"/>
            <a:ext cx="84250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f5c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4474-081E-4BC7-9AFD-64D8508C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43920"/>
            <a:ext cx="8425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7628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0040" y="1197000"/>
            <a:ext cx="4076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9640" y="3791520"/>
            <a:ext cx="407628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F648-433B-498E-921E-9F9E63C9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43920"/>
            <a:ext cx="8425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35344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f5c2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6764-75F7-494E-8AA6-6E5E0F64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43920"/>
            <a:ext cx="8425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76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0040" y="1197000"/>
            <a:ext cx="407628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20040" y="3791520"/>
            <a:ext cx="407628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659B-A189-458D-9C69-02E2E07B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43920"/>
            <a:ext cx="8425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7628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0040" y="1197000"/>
            <a:ext cx="407628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9640" y="3791520"/>
            <a:ext cx="8353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A6CA-56B8-40B4-A1A3-CC3EBEE2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280" y="43920"/>
            <a:ext cx="8425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353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9640" y="3791520"/>
            <a:ext cx="8353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8ACE-E530-40F3-8CEF-046F3535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280" y="43920"/>
            <a:ext cx="8425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7628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0040" y="1197000"/>
            <a:ext cx="407628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9640" y="3791520"/>
            <a:ext cx="407628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20040" y="3791520"/>
            <a:ext cx="407628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EF74-8CDD-4CCF-A65D-A7918935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280" y="43920"/>
            <a:ext cx="8425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895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4200" y="1197000"/>
            <a:ext cx="26895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88400" y="1197000"/>
            <a:ext cx="26895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9640" y="3791520"/>
            <a:ext cx="26895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4200" y="3791520"/>
            <a:ext cx="26895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88400" y="3791520"/>
            <a:ext cx="268956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5A7E-02C1-4ACD-A2D2-61529D55E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43920"/>
            <a:ext cx="8425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353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6DA8-B31B-4622-89E8-9BBE08E4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43920"/>
            <a:ext cx="8425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76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20040" y="1197000"/>
            <a:ext cx="4076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BA96-9C2D-4137-A91D-08FCBF0F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43920"/>
            <a:ext cx="8425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2FB9-1487-45F0-9FE9-02FEA5FA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9280" y="43920"/>
            <a:ext cx="84250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f5c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3A62-719C-4F91-9C9E-FEC4CDB3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280" y="43920"/>
            <a:ext cx="8425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7628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0040" y="1197000"/>
            <a:ext cx="4076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9640" y="3791520"/>
            <a:ext cx="407628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C529-5019-4446-8582-08F2E00A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280" y="43920"/>
            <a:ext cx="8425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76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0040" y="1197000"/>
            <a:ext cx="407628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20040" y="3791520"/>
            <a:ext cx="407628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17F2-4ADC-4267-B40D-92A2603F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280" y="43920"/>
            <a:ext cx="8425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7628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20040" y="1197000"/>
            <a:ext cx="407628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9640" y="3791520"/>
            <a:ext cx="8353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B208-D950-483D-A775-C8CFD4AB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6294600"/>
            <a:ext cx="9144000" cy="563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43920"/>
            <a:ext cx="8425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9640" y="1197000"/>
            <a:ext cx="8353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522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b1c9a9"/>
                </a:solidFill>
                <a:latin typeface="-쉬리M"/>
                <a:ea typeface="-쉬리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b1c9a9"/>
                </a:solidFill>
                <a:latin typeface="-쉬리M"/>
                <a:ea typeface="-쉬리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b1c9a9"/>
                </a:solidFill>
                <a:latin typeface="-쉬리M"/>
                <a:ea typeface="-쉬리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b1c9a9"/>
                </a:solidFill>
                <a:latin typeface="-쉬리M"/>
                <a:ea typeface="-쉬리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b1c9a9"/>
                </a:solidFill>
                <a:latin typeface="-쉬리M"/>
                <a:ea typeface="-쉬리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FE0F-0D34-477A-B344-6F847A7F0243}" type="slidenum">
              <a:rPr b="0" lang="ko-KR" sz="1400" spc="-1" strike="noStrike">
                <a:solidFill>
                  <a:srgbClr val="b1c9a9"/>
                </a:solidFill>
                <a:latin typeface="-쉬리M"/>
                <a:ea typeface="-쉬리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9144000" cy="3628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1447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7e7fd"/>
                </a:solidFill>
                <a:latin typeface="黑体"/>
              </a:rPr>
              <a:t>Click to edit the title text format</a:t>
            </a:r>
            <a:endParaRPr b="0" lang="en-US" sz="4800" spc="-1" strike="noStrike">
              <a:solidFill>
                <a:srgbClr val="47e7fd"/>
              </a:solidFill>
              <a:latin typeface="黑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92214"/>
                </a:solidFill>
                <a:latin typeface="-쉬리M"/>
                <a:ea typeface="-쉬리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92214"/>
                </a:solidFill>
                <a:latin typeface="-쉬리M"/>
                <a:ea typeface="-쉬리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92214"/>
                </a:solidFill>
                <a:latin typeface="-쉬리M"/>
                <a:ea typeface="-쉬리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92214"/>
                </a:solidFill>
                <a:latin typeface="-쉬리M"/>
                <a:ea typeface="-쉬리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92214"/>
                </a:solidFill>
                <a:latin typeface="-쉬리M"/>
                <a:ea typeface="-쉬리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B4CB-0875-400E-B1BF-8D8A2B33DF12}" type="slidenum">
              <a:rPr b="0" lang="ko-KR" sz="1400" spc="-1" strike="noStrike">
                <a:solidFill>
                  <a:srgbClr val="192214"/>
                </a:solidFill>
                <a:latin typeface="-쉬리M"/>
                <a:ea typeface="-쉬리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826920" y="836640"/>
            <a:ext cx="2232360" cy="712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f5c2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4ff5c2"/>
              </a:solidFill>
              <a:latin typeface="黑体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黑体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6000" y="3573000"/>
            <a:ext cx="7345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黑体"/>
              </a:rPr>
              <a:t>K200</a:t>
            </a:r>
            <a:r>
              <a:rPr b="0" lang="zh-CN" sz="4200" spc="-1" strike="noStrike">
                <a:solidFill>
                  <a:srgbClr val="ffffff"/>
                </a:solidFill>
                <a:latin typeface="黑体"/>
              </a:rPr>
              <a:t>系列主板安装通讯卡步骤</a:t>
            </a:r>
            <a:endParaRPr b="0" lang="en-US" sz="4200" spc="-1" strike="noStrike">
              <a:solidFill>
                <a:srgbClr val="47e7fd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43920"/>
            <a:ext cx="8425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安装通讯卡</a:t>
            </a: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124000" y="1916280"/>
            <a:ext cx="5472360" cy="2730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627280" y="5013360"/>
            <a:ext cx="4610160" cy="838080"/>
          </a:xfrm>
          <a:prstGeom prst="cloudCallout">
            <a:avLst>
              <a:gd name="adj1" fmla="val 4995"/>
              <a:gd name="adj2" fmla="val -1115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未安装通讯卡前的控制器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1052640"/>
            <a:ext cx="3600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.K200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系列控制器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43920"/>
            <a:ext cx="8425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安装通讯卡</a:t>
            </a: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03640" y="1989000"/>
            <a:ext cx="3068640" cy="2802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00000" y="981000"/>
            <a:ext cx="1871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通讯卡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43920"/>
            <a:ext cx="8425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安装通讯卡</a:t>
            </a: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268280"/>
            <a:ext cx="3600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开始安装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4103640" cy="3754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21080" y="3068640"/>
            <a:ext cx="1079640" cy="158436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3271320" y="3576600"/>
            <a:ext cx="3962520" cy="1219320"/>
          </a:xfrm>
          <a:prstGeom prst="flowChartExtract">
            <a:avLst/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" name=""/>
          <p:cNvSpPr/>
          <p:nvPr/>
        </p:nvSpPr>
        <p:spPr>
          <a:xfrm>
            <a:off x="5796000" y="2492280"/>
            <a:ext cx="2144520" cy="34290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000080">
                  <a:alpha val="77254"/>
                </a:srgbClr>
              </a:gs>
            </a:gsLst>
            <a:lin ang="10800000"/>
          </a:gradFill>
          <a:ln w="3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3933720"/>
            <a:ext cx="180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检杳控制器通讯卡插针有无弯曲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280" y="43920"/>
            <a:ext cx="8425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安装通讯卡</a:t>
            </a: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268280"/>
            <a:ext cx="3600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继续安装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3271320" y="3576600"/>
            <a:ext cx="3962520" cy="1219320"/>
          </a:xfrm>
          <a:prstGeom prst="flowChartExtract">
            <a:avLst/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" name=""/>
          <p:cNvSpPr/>
          <p:nvPr/>
        </p:nvSpPr>
        <p:spPr>
          <a:xfrm>
            <a:off x="5796000" y="2492280"/>
            <a:ext cx="2144520" cy="34290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000080">
                  <a:alpha val="77254"/>
                </a:srgbClr>
              </a:gs>
            </a:gsLst>
            <a:lin ang="10800000"/>
          </a:gradFill>
          <a:ln w="3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"/>
          <p:cNvSpPr/>
          <p:nvPr/>
        </p:nvSpPr>
        <p:spPr>
          <a:xfrm>
            <a:off x="6012000" y="3573360"/>
            <a:ext cx="1728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baseline="-25000">
                <a:solidFill>
                  <a:srgbClr val="000000"/>
                </a:solidFill>
                <a:latin typeface="Gulim"/>
              </a:rPr>
              <a:t>将通讯卡七针插孔对准主板插针垂直压下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Gulim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87280" y="2349360"/>
            <a:ext cx="32418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43920"/>
            <a:ext cx="8425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安装通讯卡</a:t>
            </a: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1268280"/>
            <a:ext cx="3600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继续安装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rot="5400000">
            <a:off x="3271320" y="3431880"/>
            <a:ext cx="3962160" cy="1219320"/>
          </a:xfrm>
          <a:prstGeom prst="flowChartExtract">
            <a:avLst/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" name=""/>
          <p:cNvSpPr/>
          <p:nvPr/>
        </p:nvSpPr>
        <p:spPr>
          <a:xfrm>
            <a:off x="5796000" y="2347920"/>
            <a:ext cx="2144520" cy="34290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000080">
                  <a:alpha val="77254"/>
                </a:srgbClr>
              </a:gs>
            </a:gsLst>
            <a:lin ang="10800000"/>
          </a:gradFill>
          <a:ln w="3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"/>
          <p:cNvSpPr/>
          <p:nvPr/>
        </p:nvSpPr>
        <p:spPr>
          <a:xfrm>
            <a:off x="6012000" y="3573360"/>
            <a:ext cx="1728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检查通讯卡已插好后，用螺丝将通讯卡与主板固定好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43920"/>
            <a:ext cx="8425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安装通讯卡</a:t>
            </a: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3555720" cy="4176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79280" y="981000"/>
            <a:ext cx="3600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安装完成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2637000"/>
            <a:ext cx="2448000" cy="1223640"/>
          </a:xfrm>
          <a:prstGeom prst="wedgeRectCallout">
            <a:avLst>
              <a:gd name="adj1" fmla="val -93513"/>
              <a:gd name="adj2" fmla="val 100972"/>
            </a:avLst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" name=""/>
          <p:cNvSpPr/>
          <p:nvPr/>
        </p:nvSpPr>
        <p:spPr>
          <a:xfrm>
            <a:off x="4859280" y="2919240"/>
            <a:ext cx="2305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baseline="-25000">
                <a:solidFill>
                  <a:srgbClr val="000000"/>
                </a:solidFill>
                <a:latin typeface="Gulim"/>
                <a:ea typeface="宋体"/>
              </a:rPr>
              <a:t>如图所示：通讯卡已成功安装在控制器主板上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Gulim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564000" y="2565360"/>
            <a:ext cx="2343240" cy="11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谢谢！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ningkuan20</cp:lastModifiedBy>
  <dcterms:modified xsi:type="dcterms:W3CDTF">2010-03-01T09:16:14Z</dcterms:modified>
  <cp:revision>326</cp:revision>
  <dc:subject/>
  <dc:title>PowerPoint 프레젠테이션</dc:title>
</cp:coreProperties>
</file>